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5A23-4905-44B2-A738-A7B1DA0E3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9878-0D09-48C7-8532-FFD17EEF9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nguages, year groups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 two types of assessment- brainstorm on white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sessment schedule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re both types of assessment val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re both types of assessment reported forma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82B5-0D3C-4A52-8854-67D06E5BC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Gui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Us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hat is the purpose of a progr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w do you currently create/write programs/UOW in your sch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C316-8114-4511-BE75-1FBA6688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Blank paper- topic, goals, activities, teaching strategies, outcomes ,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C340-136E-4FC8-A484-EACBA5D7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ion re: building the field, sequencing, cumulative nature of languag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re there other aspects that you think should be included in a UOW docu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2622-AB6C-4630-9D8F-479E121D3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e cre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ots of flexibility K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levant for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uthe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hat is a successful UOW that you have taught? Why was it successfu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CC82-7566-4694-81F9-9740ADC7B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er to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5FC4-594E-45AE-9A19-0BA0DE25F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 What should you include in your program/Unit of Work? Add to topic,goal/aims,task,strategies,prior learning,BoS outcomes,assess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dd extra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sources on w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CEAA-D9B4-4AD2-8266-5EE4AEA57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5minutes to think of ONE strategy for each skill or a strategy that combines a number of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rainstorm on whiteboard strategies for each s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uggest more from fol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6D5-21DF-4070-A174-552820611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D9C-348E-475F-AA52-F0ECAC39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139-723C-43EA-948D-6EE622DB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709-1BB0-4C5B-A6AB-0D30FFC4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371-90D0-4435-BC86-A41F6D35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64B-C9A0-4A5D-8278-057CEEEE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8A7-2235-4D67-A385-C996B250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D7E-8FA4-4E08-9218-C7CE85E6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44F-59BE-4361-AF72-7E06A29D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B4E-D236-4485-8FAE-02A5D96D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383-DFBB-4E13-ADC7-D9ABCD18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849-BD47-421B-BEB5-AF3B51E8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924-BBDB-41A5-873B-86AD411A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/>
              <a:ahLst/>
              <a:rect l="l" t="t" r="r" b="b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/>
              <a:ahLst/>
              <a:rect l="l" t="t" r="r" b="b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/>
              <a:ahLst/>
              <a:rect l="l" t="t" r="r" b="b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/>
              <a:ahLst/>
              <a:rect l="l" t="t" r="r" b="b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/>
              <a:ahLst/>
              <a:rect l="l" t="t" r="r" b="b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/>
              <a:ahLst/>
              <a:rect l="l" t="t" r="r" b="b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/>
              <a:ahLst/>
              <a:rect l="l" t="t" r="r" b="b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/>
              <a:ahLst/>
              <a:rect l="l" t="t" r="r" b="b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/>
              <a:ahLst/>
              <a:rect l="l" t="t" r="r" b="b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/>
              <a:ahLst/>
              <a:rect l="l" t="t" r="r" b="b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/>
              <a:ahLst/>
              <a:rect l="l" t="t" r="r" b="b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/>
              <a:ahLst/>
              <a:rect l="l" t="t" r="r" b="b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/>
              <a:ahLst/>
              <a:rect l="l" t="t" r="r" b="b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/>
              <a:ahLst/>
              <a:rect l="l" t="t" r="r" b="b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/>
              <a:ahLst/>
              <a:rect l="l" t="t" r="r" b="b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/>
              <a:ahLst/>
              <a:rect l="l" t="t" r="r" b="b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/>
              <a:ahLst/>
              <a:rect l="l" t="t" r="r" b="b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/>
              <a:ahLst/>
              <a:rect l="l" t="t" r="r" b="b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/>
              <a:ahLst/>
              <a:rect l="l" t="t" r="r" b="b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/>
              <a:ahLst/>
              <a:rect l="l" t="t" r="r" b="b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/>
              <a:ahLst/>
              <a:rect l="l" t="t" r="r" b="b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/>
              <a:ahLst/>
              <a:rect l="l" t="t" r="r" b="b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/>
              <a:ahLst/>
              <a:rect l="l" t="t" r="r" b="b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/>
              <a:ahLst/>
              <a:rect l="l" t="t" r="r" b="b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/>
              <a:ahLst/>
              <a:rect l="l" t="t" r="r" b="b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/>
              <a:ahLst/>
              <a:rect l="l" t="t" r="r" b="b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/>
              <a:ahLst/>
              <a:rect l="l" t="t" r="r" b="b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/>
              <a:ahLst/>
              <a:rect l="l" t="t" r="r" b="b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/>
              <a:ahLst/>
              <a:rect l="l" t="t" r="r" b="b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/>
              <a:ahLst/>
              <a:rect l="l" t="t" r="r" b="b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/>
              <a:ahLst/>
              <a:rect l="l" t="t" r="r" b="b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/>
              <a:ahLst/>
              <a:rect l="l" t="t" r="r" b="b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/>
              <a:ahLst/>
              <a:rect l="l" t="t" r="r" b="b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/>
              <a:ahLst/>
              <a:rect l="l" t="t" r="r" b="b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/>
              <a:ahLst/>
              <a:rect l="l" t="t" r="r" b="b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/>
              <a:ahLst/>
              <a:rect l="l" t="t" r="r" b="b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/>
              <a:ahLst/>
              <a:rect l="l" t="t" r="r" b="b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/>
              <a:ahLst/>
              <a:rect l="l" t="t" r="r" b="b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/>
              <a:ahLst/>
              <a:rect l="l" t="t" r="r" b="b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/>
              <a:ahLst/>
              <a:rect l="l" t="t" r="r" b="b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/>
              <a:ahLst/>
              <a:rect l="l" t="t" r="r" b="b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/>
              <a:ahLst/>
              <a:rect l="l" t="t" r="r" b="b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/>
              <a:ahLst/>
              <a:rect l="l" t="t" r="r" b="b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/>
              <a:ahLst/>
              <a:rect l="l" t="t" r="r" b="b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/>
              <a:ahLst/>
              <a:rect l="l" t="t" r="r" b="b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/>
              <a:ahLst/>
              <a:rect l="l" t="t" r="r" b="b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/>
              <a:ahLst/>
              <a:rect l="l" t="t" r="r" b="b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/>
              <a:ahLst/>
              <a:rect l="l" t="t" r="r" b="b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/>
              <a:ahLst/>
              <a:rect l="l" t="t" r="r" b="b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/>
              <a:ahLst/>
              <a:rect l="l" t="t" r="r" b="b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/>
              <a:ahLst/>
              <a:rect l="l" t="t" r="r" b="b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/>
              <a:ahLst/>
              <a:rect l="l" t="t" r="r" b="b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/>
              <a:ahLst/>
              <a:rect l="l" t="t" r="r" b="b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/>
              <a:ahLst/>
              <a:rect l="l" t="t" r="r" b="b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/>
              <a:ahLst/>
              <a:rect l="l" t="t" r="r" b="b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/>
              <a:ahLst/>
              <a:rect l="l" t="t" r="r" b="b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/>
              <a:ahLst/>
              <a:rect l="l" t="t" r="r" b="b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/>
              <a:ahLst/>
              <a:rect l="l" t="t" r="r" b="b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/>
              <a:ahLst/>
              <a:rect l="l" t="t" r="r" b="b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/>
              <a:ahLst/>
              <a:rect l="l" t="t" r="r" b="b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/>
              <a:ahLst/>
              <a:rect l="l" t="t" r="r" b="b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/>
              <a:ahLst/>
              <a:rect l="l" t="t" r="r" b="b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/>
              <a:ahLst/>
              <a:rect l="l" t="t" r="r" b="b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/>
              <a:ahLst/>
              <a:rect l="l" t="t" r="r" b="b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/>
              <a:ahLst/>
              <a:rect l="l" t="t" r="r" b="b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/>
              <a:ahLst/>
              <a:rect l="l" t="t" r="r" b="b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/>
              <a:ahLst/>
              <a:rect l="l" t="t" r="r" b="b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/>
              <a:ahLst/>
              <a:rect l="l" t="t" r="r" b="b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/>
              <a:ahLst/>
              <a:rect l="l" t="t" r="r" b="b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/>
              <a:ahLst/>
              <a:rect l="l" t="t" r="r" b="b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/>
              <a:ahLst/>
              <a:rect l="l" t="t" r="r" b="b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/>
              <a:ahLst/>
              <a:rect l="l" t="t" r="r" b="b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/>
              <a:ahLst/>
              <a:rect l="l" t="t" r="r" b="b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/>
              <a:ahLst/>
              <a:rect l="l" t="t" r="r" b="b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/>
              <a:ahLst/>
              <a:rect l="l" t="t" r="r" b="b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/>
              <a:ahLst/>
              <a:rect l="l" t="t" r="r" b="b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/>
              <a:ahLst/>
              <a:rect l="l" t="t" r="r" b="b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/>
              <a:ahLst/>
              <a:rect l="l" t="t" r="r" b="b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/>
              <a:ahLst/>
              <a:rect l="l" t="t" r="r" b="b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/>
              <a:ahLst/>
              <a:rect l="l" t="t" r="r" b="b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4305-D638-4681-B40F-BC4757C50E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aisnsw.edu.au/Services/PL/LanguagesSecondary/pages/default.aspx" TargetMode="External"/><Relationship Id="rId2" Type="http://schemas.openxmlformats.org/officeDocument/2006/relationships/hyperlink" Target="https://aisnswlanguages.wikispaces.com/" TargetMode="External"/><Relationship Id="rId3" Type="http://schemas.openxmlformats.org/officeDocument/2006/relationships/hyperlink" Target="http://www.boardofstudies.nsw.edu.au/syllabus_sc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veloping effective Languages programs K-10</a:t>
            </a:r>
            <a:br>
              <a:rPr sz="3100"/>
            </a:br>
            <a:endParaRPr b="1" lang="en-US" sz="31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763640" y="2276640"/>
            <a:ext cx="7129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tember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rryl Wah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nguages Consultant  K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IS NS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Assessmen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86920" y="1267920"/>
            <a:ext cx="36687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ormal Assessment (Continuo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iagnost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Q&amp;A class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ook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-class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Quiz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Ongoing projects-diary, blog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43280" y="1267920"/>
            <a:ext cx="4246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ssessment (Summ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Ex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lass oral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ole-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/W/L/Sp in-class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t-hom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roup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7956720" y="566100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AIS Languages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2"/>
              </a:rPr>
              <a:t>AIS Languages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3"/>
              </a:rPr>
              <a:t>BO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rriculum Support Directorate (D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273e6f"/>
                </a:solidFill>
                <a:latin typeface="Arial"/>
              </a:rPr>
              <a:t>Languages update!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1267920"/>
            <a:ext cx="7635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ustralian Curriculum- Where are we up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French, Italian, Chinese, Indonesian K-10 publis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australiancurriculum.edu.a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ll language curriculum to be published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 up to BO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anguages in N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OSTES Languages review held 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tion report and list of proposals on BOSTES website http://www.boardofstudies.nsw.edu.a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7885080" y="12852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58560" y="1052280"/>
            <a:ext cx="74912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anguage learning opportuni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rental Polyglots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aisnsw.edu.au/FundedPrograms/Languages/Pages/default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LTA student scholarships - Italian and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mltansw.asn.a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LTA Linguaf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mltansw.asn.a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73e6f"/>
                </a:solidFill>
                <a:latin typeface="Arial"/>
              </a:rPr>
              <a:t>Some initial thinking….</a:t>
            </a:r>
            <a:br>
              <a:rPr sz="3600"/>
            </a:br>
            <a:endParaRPr b="1" lang="en-US" sz="3600" spc="-1" strike="noStrike">
              <a:solidFill>
                <a:srgbClr val="273e6f"/>
              </a:solidFill>
              <a:latin typeface="Arial"/>
            </a:endParaRPr>
          </a:p>
        </p:txBody>
      </p:sp>
      <p:pic>
        <p:nvPicPr>
          <p:cNvPr id="308" name="Content Placeholder 5" descr=""/>
          <p:cNvPicPr/>
          <p:nvPr/>
        </p:nvPicPr>
        <p:blipFill>
          <a:blip r:embed="rId1"/>
          <a:stretch/>
        </p:blipFill>
        <p:spPr>
          <a:xfrm>
            <a:off x="7524720" y="508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468360" y="1628640"/>
            <a:ext cx="7920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is the purpose of a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are the key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should the forma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6920" y="223560"/>
            <a:ext cx="748836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AU" sz="2500" spc="-1" strike="noStrike">
                <a:solidFill>
                  <a:srgbClr val="273e6f"/>
                </a:solidFill>
                <a:latin typeface="Arial"/>
              </a:rPr>
              <a:t>Key Questions</a:t>
            </a:r>
            <a:br>
              <a:rPr sz="2500"/>
            </a:br>
            <a:endParaRPr b="1" lang="en-US" sz="25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187280" y="1341360"/>
            <a:ext cx="7491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at topic/s will you be teac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goal for your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w will your students demonstrate that they have achieved this go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w will you teach with this goal in mi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at available resources do I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at BOSTES outcomes will you focus 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w will you assess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920" y="223920"/>
            <a:ext cx="76327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273e6f"/>
                </a:solidFill>
                <a:latin typeface="Arial"/>
              </a:rPr>
              <a:t>Some more key questions...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187280" y="1341360"/>
            <a:ext cx="7491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s this topic engaging and relevant for the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How can I make this topic more enga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urpose of this Unit of Work/ta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oes this topic build on previous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How will I differentiate this Unit of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hat will the students be able to say, read, write and understand at the end of this Un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7596360" y="5516640"/>
            <a:ext cx="1079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320760"/>
            <a:ext cx="665316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273e6f"/>
                </a:solidFill>
                <a:latin typeface="Arial"/>
              </a:rPr>
              <a:t>Different approaches: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How do you choose what you will te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- Textbook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- Special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- Student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- Teacher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Understanding Backwards Design (UB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Multi-disciplinary approach (cross K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Could you use program as Language promotion docume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AU" sz="2500" spc="-1" strike="noStrike">
                <a:solidFill>
                  <a:srgbClr val="273e6f"/>
                </a:solidFill>
                <a:latin typeface="Arial"/>
              </a:rPr>
              <a:t>Scope and sequence – An overview</a:t>
            </a:r>
            <a:br>
              <a:rPr sz="2900"/>
            </a:br>
            <a:endParaRPr b="1" lang="en-US" sz="25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116000" y="1052640"/>
            <a:ext cx="7562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plan for a Year/ S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covers a range of topics at varying degrees of dep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indicates progression, building of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sequencing of topics /th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not covering the same topics/language/concepts over and 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BOSTES outcomes are cov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58332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Program/Unit of work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42920" y="1341360"/>
            <a:ext cx="293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Indicative t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Clear aims/go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Prior lea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Organisational foc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Activities or learning experiences or tas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BoS outco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177800" y="1268280"/>
            <a:ext cx="3521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Links to literacy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Links to ICT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Language ski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Assessment – Formative and/or summa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320760"/>
            <a:ext cx="651204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273e6f"/>
                </a:solidFill>
                <a:latin typeface="Arial"/>
              </a:rPr>
              <a:t>Teaching and learning strategies</a:t>
            </a:r>
            <a:br>
              <a:rPr sz="3100"/>
            </a:br>
            <a:r>
              <a:rPr b="1" lang="en-AU" sz="2000" spc="-1" strike="noStrike">
                <a:solidFill>
                  <a:srgbClr val="273e6f"/>
                </a:solidFill>
                <a:latin typeface="Arial"/>
              </a:rPr>
              <a:t>(Tasks/activities/learning experiences/exercises)</a:t>
            </a:r>
            <a:endParaRPr b="1" lang="en-US" sz="2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42560" y="1412640"/>
            <a:ext cx="324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What will this activity focus 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Speaking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Listening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Reading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Writing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Making literacy conne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Moving between cultu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Outcomes from other KL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211280" y="1412640"/>
            <a:ext cx="4467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Key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What is the purpose of the tas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Is it authent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How can I differentiate this activit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Is it engaging for the student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Will I use this activity for continuous or formal assessment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How will I provide feedbac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7885080" y="5713560"/>
            <a:ext cx="9540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320760"/>
            <a:ext cx="665316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273e6f"/>
                </a:solidFill>
                <a:latin typeface="Arial"/>
              </a:rPr>
              <a:t>Evaluation/Reflection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16000" y="1412640"/>
            <a:ext cx="65800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The most important aspect of a prog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Be hone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Make changes to suit different classes, teachers, times et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What are you evalua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ere outcomes achieved? To what extent? Why no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ere the activities engaging for student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ere the resources appropriate? Which resources were most useful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hat worked ? What didn’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hat changes will I make for next tim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4-09-09T00:55:39Z</dcterms:modified>
  <cp:revision>224</cp:revision>
  <dc:subject/>
  <dc:title>Slide 1</dc:title>
</cp:coreProperties>
</file>